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udithway1@gmail.com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93400" y="253800"/>
            <a:ext cx="10541160" cy="246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aders’ Cup State Final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511960"/>
            <a:ext cx="10464840" cy="1777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ait, what is the Readers’ Cup??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Judith Way @judithwa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ere, when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                       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@ Charles LaTrobe College, Waiora Road, Macleod Wes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imary Friday 25/10/13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ary Friday 1/11/13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146320" y="2908440"/>
            <a:ext cx="38098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w much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big fat $0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4495680" y="3224520"/>
            <a:ext cx="38926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Bangla Sangam MN"/>
                <a:ea typeface="Bangla Sangam MN"/>
              </a:rPr>
              <a:t>$0</a:t>
            </a:r>
            <a:r>
              <a:rPr b="0" lang="en-US" sz="72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0" lang="en-US" sz="7200" spc="-1" strike="noStrike">
                <a:solidFill>
                  <a:srgbClr val="ff6600"/>
                </a:solidFill>
                <a:latin typeface="Apple Casual"/>
                <a:ea typeface="Apple Casual"/>
              </a:rPr>
              <a:t>$0</a:t>
            </a:r>
            <a:r>
              <a:rPr b="0" lang="en-US" sz="72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$0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’s in it for schools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izes of books donated by Allen and Unwin and Penguin Book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rophy to winning schoo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presenting your schoo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am build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king reading fun/promoting read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cognising reading as a ‘team sport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teracy payoff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llaborative use of techn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6407280" y="3692520"/>
            <a:ext cx="5155920" cy="17431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7912080" y="5511960"/>
            <a:ext cx="215892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lease not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Readers’ Cup is not endorsed by or associated with the School LIbrary Association of Victoria (SLAV)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ore info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69720" y="3543120"/>
            <a:ext cx="10464840" cy="546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icreaderscup.global2.vic.edu.au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@readerscu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judithway1@gmail.c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813200" y="2133720"/>
            <a:ext cx="292104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52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ver heard of a trophy for reading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have now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7543800" y="3456000"/>
            <a:ext cx="339084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o can be involved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146320"/>
            <a:ext cx="10464840" cy="6337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y Victorian schoo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2-4 students in teams from years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3 &amp; 4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5 &amp; 6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7 &amp; 8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9 &amp; 10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w does it work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4 books read - voted on by schools beforehand (mix of Australian and international books, genres and gender interest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4 questions per book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reative round on one book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370240" y="2235240"/>
            <a:ext cx="1236600" cy="17780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6667560" y="2070000"/>
            <a:ext cx="1384200" cy="21081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4457880" y="2092320"/>
            <a:ext cx="1358640" cy="20480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8897760" y="2057400"/>
            <a:ext cx="124956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cor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 point per question (4 questions x 4 books = 16 point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8 points creative rou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= 24 poi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Q &amp; A round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se are ‘remembering’ questions - LO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.g. Was Harry Potter’s mother magic born or Muggle born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colour eyes does Harry Potter hav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reative rou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64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702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02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02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02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702000" indent="-451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Using HOTS to creatively interpret and present book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702000" indent="-451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Using tech tools to present the interpret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702000" indent="-451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Explicit criteria - 1 point each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4876920" y="2158920"/>
            <a:ext cx="3251160" cy="38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reative rou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52200" y="1955520"/>
            <a:ext cx="104648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Must use one of the following (or si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ilar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Georgi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Georgia"/>
              </a:rPr>
              <a:t>Other options are encouraged via discussions with the Readers’ Cup conveno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571680" y="5499000"/>
            <a:ext cx="3822480" cy="21211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5829480" y="3319560"/>
            <a:ext cx="1333440" cy="13158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-546120" y="-3263760"/>
            <a:ext cx="3822840" cy="21207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1155600" y="2844720"/>
            <a:ext cx="2032200" cy="7873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5"/>
          <a:stretch/>
        </p:blipFill>
        <p:spPr>
          <a:xfrm>
            <a:off x="3301920" y="2108160"/>
            <a:ext cx="2158920" cy="19940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6"/>
          <a:stretch/>
        </p:blipFill>
        <p:spPr>
          <a:xfrm>
            <a:off x="5549760" y="2031840"/>
            <a:ext cx="2032200" cy="8128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7"/>
          <a:stretch/>
        </p:blipFill>
        <p:spPr>
          <a:xfrm>
            <a:off x="9690120" y="4127400"/>
            <a:ext cx="2654280" cy="2654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8"/>
          <a:stretch/>
        </p:blipFill>
        <p:spPr>
          <a:xfrm>
            <a:off x="7543800" y="2552760"/>
            <a:ext cx="6413400" cy="12700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9"/>
          <a:stretch/>
        </p:blipFill>
        <p:spPr>
          <a:xfrm>
            <a:off x="4724280" y="5626080"/>
            <a:ext cx="4889520" cy="16635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10"/>
          <a:stretch/>
        </p:blipFill>
        <p:spPr>
          <a:xfrm>
            <a:off x="6630840" y="7569360"/>
            <a:ext cx="457056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inners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69720" y="2006640"/>
            <a:ext cx="10464840" cy="64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719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19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19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19640" indent="-462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e team from each section wins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19640" indent="-462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lds trophy at school for one yea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19640" indent="-462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ch student from winning team gets a selection of book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7080" y="2260440"/>
            <a:ext cx="12445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